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517B-8B55-41AE-83A6-0CA3E61B6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26DD-AC6A-40D4-92FC-7F49D6FD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A6B3-2245-417B-938C-E3B151FA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7680-CA8A-4234-8C57-F75871FBF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C2F8-A29D-4735-8287-AB01D0B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E80B-AFDD-4553-9340-9937DADC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96B7-FDE8-4314-AF96-D95E97C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02CB-7C60-4F9C-B252-7F47436C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6765-F4E3-4875-90A5-52AB5656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E4D7-5279-4CE4-9BD9-A9929624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AFEB8-CDE2-4247-88BD-97C66B00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E425-D9B7-4E15-93C3-0BC13B68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479-AA92-4119-9A69-190E50F6912C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68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Requested Status Re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28-Feb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00280"/>
            <a:ext cx="8318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homas Neu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RD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dreas L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Kristina No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19E8-0E44-4113-A690-886731F49C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OM (as of S3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05920" cy="532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6657-F653-4469-BA1D-210BE90A08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27320" y="374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04640"/>
            <a:ext cx="79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988920"/>
            <a:ext cx="828036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31D6-B373-4C61-9AED-1D75E3D78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205000"/>
            <a:ext cx="0" cy="38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83600" y="6137280"/>
            <a:ext cx="5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6360" y="5837400"/>
            <a:ext cx="74167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1928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2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744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60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65080" y="2494080"/>
            <a:ext cx="180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68360" y="2508120"/>
            <a:ext cx="1800" cy="3368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344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76360" y="2494080"/>
            <a:ext cx="32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81800" y="2494080"/>
            <a:ext cx="144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084360" y="2495520"/>
            <a:ext cx="180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980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093080" y="2495520"/>
            <a:ext cx="288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5960" y="216684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3440" y="2664000"/>
            <a:ext cx="1008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508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97800" y="249408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495520"/>
            <a:ext cx="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2495520"/>
            <a:ext cx="1440" cy="33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2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27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0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5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8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1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9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4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7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5600" y="59817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9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344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0320" y="16556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267012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3080" y="2664000"/>
            <a:ext cx="1944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6160" y="216684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66544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44720" y="216072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16072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81440" y="266400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563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6891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26828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29528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360" y="129528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7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1080" y="280836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81448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8464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1292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5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4543560"/>
            <a:ext cx="43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53080" y="501336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580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ilo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5960" y="501984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75640" y="5013360"/>
            <a:ext cx="15127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54356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am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014800"/>
            <a:ext cx="504720" cy="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7800" y="4537080"/>
            <a:ext cx="79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.3 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440" y="4537080"/>
            <a:ext cx="57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81440" y="5013360"/>
            <a:ext cx="3589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9402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5157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744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5184720"/>
            <a:ext cx="36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5661000"/>
            <a:ext cx="30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548964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403236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65480"/>
            <a:ext cx="10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le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645000"/>
            <a:ext cx="43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3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3672000"/>
            <a:ext cx="64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4360" y="3672000"/>
            <a:ext cx="86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S (5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3213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/ S25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4360" y="5516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5013360"/>
            <a:ext cx="504720" cy="4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9440" y="4537080"/>
            <a:ext cx="3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1A8C-0E8A-4E9B-9E3A-AA093B9E6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outh Catchers” break off Front Cover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Clip On Battery Li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During Free F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Reference Dimension and Min. Force fixed within TTD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re-occurred with B3 again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ChiChen does not ensure Process Stability tough specified within TT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Reference Dimension was not communicated correctly from Lumberg (Integrated Supplier) towards ChiChe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Tooling has been improved 2 times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rst improvements at factory since 16-Feb-06, but mixed with old parts (only 0.1% failure)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2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arts with final improvements at factory since 27-Feb-06, clean deliver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21906" t="31188" r="5027" b="14262"/>
          <a:stretch/>
        </p:blipFill>
        <p:spPr>
          <a:xfrm>
            <a:off x="1042920" y="15494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88000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CBEA-AF9D-4A54-A795-93AE22F2F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Current problems Hardware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ront Cov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67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“</a:t>
            </a:r>
            <a:r>
              <a:rPr b="0" lang="en-US" sz="1400" spc="-1" strike="noStrike" u="sng">
                <a:solidFill>
                  <a:srgbClr val="3a0e66"/>
                </a:solidFill>
                <a:uFillTx/>
                <a:latin typeface="Times New Roman"/>
              </a:rPr>
              <a:t>Side Keys” clamping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Bad Tactile Feeling of lower Side Key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Qualification of this solution was done with B1+, based on Parts out of Prototype Tool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Problem has been occurred with B2.3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Lumberg has made a mistake with the mass Production Tooling (Parts too big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Post galvanizing process not stable, thus galvanic aggregates at some area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3a0e66"/>
                </a:solidFill>
                <a:latin typeface="Times New Roman"/>
              </a:rPr>
              <a:t>Solution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Side Key Tooling has been improved.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Improved Parts at factory since 27-Feb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The Rear Cover Tooling has been changed (in order to increase stability over mass production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Times New Roman"/>
              </a:rPr>
              <a:t>-&gt; First Parts out of modified tool expected at factory 09-Mar-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80D5-9EFC-4AAB-A5A2-948D6B69E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tatus Softwar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947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DS declared based upon SVN22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nCCPI: 740000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Return Rate: 8%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Following SWV have been released by Q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0 for E+ on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1 for 2.5k ma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Times New Roman"/>
              </a:rPr>
              <a:t>SVN22 unlimit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a0e66"/>
                </a:solidFill>
                <a:uFillTx/>
                <a:latin typeface="Times New Roman"/>
              </a:rPr>
              <a:t>SW- Operator Approval</a:t>
            </a:r>
            <a:br>
              <a:rPr sz="1800"/>
            </a:b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3573360"/>
          <a:ext cx="8207280" cy="2587680"/>
        </p:xfrm>
        <a:graphic>
          <a:graphicData uri="http://schemas.openxmlformats.org/drawingml/2006/table">
            <a:tbl>
              <a:tblPr/>
              <a:tblGrid>
                <a:gridCol w="1160280"/>
                <a:gridCol w="698760"/>
                <a:gridCol w="1083960"/>
                <a:gridCol w="1236960"/>
                <a:gridCol w="4027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</a:t>
                      </a:r>
                      <a:r>
                        <a:rPr b="0" lang="en-US" sz="1800" spc="-1" strike="noStrike" baseline="30000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Ship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7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4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lease expected with SVN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V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t li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31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.03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ccording to O2 demand, all certificated have to be in place -&gt;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6.0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.0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mited Release with SVN20. Unlimited Release expected with SVN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43700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835280" y="5229360"/>
            <a:ext cx="360360" cy="274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36036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7F7B-48C1-446B-B8DF-27B788CD80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rice/ Volume Evalu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0280" y="5013360"/>
          <a:ext cx="8218440" cy="1192320"/>
        </p:xfrm>
        <a:graphic>
          <a:graphicData uri="http://schemas.openxmlformats.org/drawingml/2006/table">
            <a:tbl>
              <a:tblPr/>
              <a:tblGrid>
                <a:gridCol w="1089000"/>
                <a:gridCol w="1297080"/>
                <a:gridCol w="1295280"/>
                <a:gridCol w="1297080"/>
                <a:gridCol w="1295280"/>
                <a:gridCol w="1224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urn 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 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294.092.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32.750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7.21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05.46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99.79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4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58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€</a:t>
                      </a: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6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0080"/>
                          </a:solidFill>
                          <a:latin typeface="Minion"/>
                          <a:ea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443640" y="981000"/>
            <a:ext cx="24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uotation; K.Y. Lee, 17.01.06 BenQ Brand 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…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"More important is [average selling price] and [profit] margins," Mr. Lee sai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5897520" cy="389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A950-B20B-4546-9152-07BB9B21E6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s during Project Realization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ssembly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Gluing of Mg Screw Bosses not stable over pro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Battery Release Mechanis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Battery Release Mechanism not Fun to u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“South Catchers” break off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Project Budget, BOM and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Availability/Yield of Front Cov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necessary due to problems abov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ool Crashes shortly before Ramp Up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mpact upon Ramp Up Quantity and Qual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-59724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Keypad Qualit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Double Click of Navi R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veral Redesigns and ad hoc measures perform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Impact (2</a:t>
            </a:r>
            <a:r>
              <a:rPr b="0" lang="en-US" sz="1600" spc="-1" strike="noStrike" baseline="30000">
                <a:solidFill>
                  <a:srgbClr val="3a0e66"/>
                </a:solidFill>
                <a:latin typeface="Minion"/>
              </a:rPr>
              <a:t>nd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 source not yet released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97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4741-81E5-4199-8B80-6AB4D3CF4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ajor Problem Cause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Pre Development done within Product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Hous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Metal Keypad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No experiences with Slim Design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Selection of in proper Suppli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Selection was based on Metal Case only, assembly concept was not taken into accou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Techn. Proposals (Screw Bosses/ South Catchers) have not been reviewed thoroughl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Communication was not perfect due to local and cultural distan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Integrated Supplier Concep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Interfaces and Responsibilities not well structured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Mismatch between specifications/ requirements given to Sub Supplier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Very Long Lead Times/ Complicated Logistic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-578880">
              <a:spcBef>
                <a:spcPts val="451"/>
              </a:spcBef>
              <a:buClr>
                <a:srgbClr val="3a0e66"/>
              </a:buClr>
              <a:buFont typeface="Minio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Migration Siemens -&gt; BenQ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Lost Enthusiasm of some Project Team Members located in Ulm due to new site strateg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7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-&gt; Permanent change of Team Members (Headcount Reduced to 60 at Ulm Site 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A14B-0502-4972-B647-E0A68D4A9D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D989-DECF-4D42-B070-6DA0AD46E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Recent Achievemen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DS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23.02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24.02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Ramp Up Quantity reduced to 60k until end of 03/06 (vs. 110k as of M1);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Number of S68 produced: 8.7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Times New Roman"/>
              </a:rPr>
              <a:t>Current First Pass Rate: 88% (&lt;1% Side Key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utloo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0">
              <a:lnSpc>
                <a:spcPct val="100000"/>
              </a:lnSpc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57120" indent="-357120">
              <a:lnSpc>
                <a:spcPct val="100000"/>
              </a:lnSpc>
              <a:buClr>
                <a:srgbClr val="3a0e66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S4: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31.05.06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vs. 31.05.06 as of M1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6EFE5-6B3D-4344-B33A-882D1DB3E7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56000" y="1125360"/>
            <a:ext cx="4608720" cy="105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declared on February 23, 2006 vs. M1 target of February 24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276640"/>
            <a:ext cx="4608720" cy="37738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Orders (78k) exceed current ramp-up quantity (60k vs. 110k at M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O (35k) is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TS (43k): 25k are covered, 18k not cover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ly only one keypad supplier (DK UIL) release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elivery reliability for Mechanical parts from Lumberg (Front Cover, Rear Cover and Battery Cover) not giv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Manual 100%-control is in place due to breaking south catchers -&gt; New parts arrive 27-Feb-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till ~ 80 % yield due to side key tacti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metically quality of C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eceiver falling off at assemb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xed delivery CR (with/without rework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7004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972D-12B3-4499-9E1D-84742D96F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981000"/>
            <a:ext cx="4680000" cy="45010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ixation of Nano I/O connector still problema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actility of side keys still critical . Tool modification done, but parts out of the modified tool not available before 28-F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attery cover fixation still not sufficient, modified parts expected end of this week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igh Failure rate of drop Tests; Strong deformations of front cover (accepted by PM) which lead to difficulties in pressing the keys (cosmetic and handling issu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atic load resistance of LCD glass and display lens not high enough. Breakage with 120N possible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eat resistance and release of Ni-Ions of you DK-UIL keypad still not as expec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ystem T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approvals and certificates are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uct Qual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: 16% (SW+HW) at Delivery Start. RR over lifecycle 12.5%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70044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F06C-AD27-4EF4-B5B8-AD7218E6F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65240" y="359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Times New Roman"/>
              </a:rPr>
              <a:t>Quality Gate Rating Polaris (S68)</a:t>
            </a: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Measures, Responsibilities and Due Date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279440"/>
          <a:ext cx="7991280" cy="2941560"/>
        </p:xfrm>
        <a:graphic>
          <a:graphicData uri="http://schemas.openxmlformats.org/drawingml/2006/table">
            <a:tbl>
              <a:tblPr/>
              <a:tblGrid>
                <a:gridCol w="1079280"/>
                <a:gridCol w="3311640"/>
                <a:gridCol w="1008000"/>
                <a:gridCol w="993960"/>
                <a:gridCol w="1598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-Gate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u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w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100% manual Insp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8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stall SD-QM employee at C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0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alf Ziemin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ncrease number of shifts per 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1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Doe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Front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Battery C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4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Side K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Improve Injection Parameter of Display L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e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27-Feb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Klaus Kroe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eat Tests test to verify improv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03-Mar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efan Bisch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E782-8990-4F70-8F11-4E1158360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Times New Roman"/>
              </a:rPr>
              <a:t>The S68 DS Milestone has been declared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S68 Project Team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CM Phil Mulholland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(23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Head of PHE  Dr. Jochen Eickhol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 (28-Feb-06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378936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0846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24210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447840" cy="48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364000" y="4892760"/>
            <a:ext cx="447840" cy="48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3B4B-3746-4173-9593-691836C04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D82E-02E0-44F3-9ACB-86BC18159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Financial Status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20872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5683-ACE4-41E7-9D54-355D322D44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68 Budget (as of 31st January 06)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6121440" cy="30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6121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4360" y="4437000"/>
          <a:ext cx="5343480" cy="16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437000"/>
                    <a:ext cx="53434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6443640" y="476280"/>
            <a:ext cx="24382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ccount: E98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0 declared 13.07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Originally planned 31.03.20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1 declared 28.09.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3 planned 31.05.2006            (originally 31.07.20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fforts after M3: 0‘45 M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Platform:</a:t>
            </a: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 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1/8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Decision of Sep 05: migration to Rel.1 </a:t>
            </a:r>
            <a:r>
              <a:rPr b="1" lang="de-DE" sz="1000" spc="-1" strike="noStrike">
                <a:solidFill>
                  <a:srgbClr val="ababab"/>
                </a:solidFill>
                <a:latin typeface="Wingdings"/>
                <a:ea typeface="Wingdings"/>
              </a:rPr>
              <a:t>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no platform costs of           X85 SG2 Rel.2 Platfo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</a:t>
            </a:r>
            <a:r>
              <a:rPr b="1" lang="de-DE" sz="1000" spc="-1" strike="noStrike">
                <a:solidFill>
                  <a:srgbClr val="ababab"/>
                </a:solidFill>
                <a:latin typeface="Arial"/>
              </a:rPr>
              <a:t>   ¼ of X75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8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EGK-Factor: 85er G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3/04: 1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4/05: 2,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ababab"/>
                </a:solidFill>
                <a:latin typeface="Arial"/>
              </a:rPr>
              <a:t>05/06: 2,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orecast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30.000 € charging of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tual includ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+ 256.000 liabil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C5FB-B9AD-4C39-AD13-FB6A6F773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Thomas Neumann</cp:lastModifiedBy>
  <dcterms:modified xsi:type="dcterms:W3CDTF">2006-04-05T08:56:16Z</dcterms:modified>
  <cp:revision>191</cp:revision>
  <dc:subject/>
  <dc:title>PowerPoint 簡報</dc:title>
</cp:coreProperties>
</file>